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EB47-4340-463A-9A18-688AACE0C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1B1A-2AB8-4EBD-B490-BFC610887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03B8-5D52-4300-8707-C52EFD357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8899-4357-4F6A-81AF-46E941CC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AB6-64A4-46B8-AC7B-DEA59A61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B995-31AA-4D9E-9C31-0F054FF2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8AE8-1F44-4AF9-BB00-7D37E246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F04-9F30-4ECF-A0C9-0C0899F7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63A-3EDA-4816-A161-A6E269E2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46C4-215A-48C7-BC2E-EB417D10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3E3-5125-47B4-89D0-3510D4D3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A566-6C94-4BBB-B810-F9E1B609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A39-7C1C-4C0E-A139-382A8D76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69B1-5B36-4C6A-8530-3F21239C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86A6-A1F3-4C34-8EDE-2B55D739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BBB8-78DD-4C8B-BFA8-0FF642B56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" Target=""/><Relationship Id="rId42" Type="http://schemas.openxmlformats.org/officeDocument/2006/relationships/slide" Target=""/><Relationship Id="rId43" Type="http://schemas.openxmlformats.org/officeDocument/2006/relationships/slide" Target=""/><Relationship Id="rId44" Type="http://schemas.openxmlformats.org/officeDocument/2006/relationships/slideLayout" Target="../slideLayouts/slideLayout1.xml"/><Relationship Id="rId4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Jad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838080" y="16765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y stopping wants / desi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90720" y="152280"/>
            <a:ext cx="71625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Buddhist princliples, how do people STOP suffer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336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ha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family ruled the first dynasty in the Huang Ho vall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609480" y="1295280"/>
            <a:ext cx="8153640" cy="4572000"/>
          </a:xfrm>
          <a:prstGeom prst="wedgeRectCallout">
            <a:avLst>
              <a:gd name="adj1" fmla="val -20055"/>
              <a:gd name="adj2" fmla="val 736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oism means The W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ually to happin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066680" y="1522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aoism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91440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you follow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ightfold Pa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90720" y="228600"/>
            <a:ext cx="716256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MIDDLE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was the first private teacher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Confucius jo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106668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ities.  They are located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cient Ind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Harappa and Mohenjo – Daro?  Where are they 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ddharta Gauta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founded (started) Buddhi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143000" y="2590920"/>
            <a:ext cx="7162920" cy="3124080"/>
          </a:xfrm>
          <a:prstGeom prst="wedgeRectCallout">
            <a:avLst>
              <a:gd name="adj1" fmla="val -21231"/>
              <a:gd name="adj2" fmla="val -20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religious song or po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Hy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Q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as the largest dynasty in Ancient Chi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notheism means you belie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one G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lytheism means you belie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more than one G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990720" y="22860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difference between Monotheism and Polythei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cient A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2362320" y="0"/>
            <a:ext cx="20574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ian 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4572000" y="0"/>
            <a:ext cx="205740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o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6781680" y="0"/>
            <a:ext cx="221004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x i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ction Button: Custom 29">
            <a:hlinkClick r:id="rId41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ction Button: Custom 30">
            <a:hlinkClick r:id="rId4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ction Button: Custom 31">
            <a:hlinkClick r:id="rId43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838080" y="1752480"/>
            <a:ext cx="7772400" cy="4038840"/>
          </a:xfrm>
          <a:prstGeom prst="wedgeRectCallout">
            <a:avLst>
              <a:gd name="adj1" fmla="val -22509"/>
              <a:gd name="adj2" fmla="val -15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nduism uses the Cas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4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e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rrio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rch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r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066680" y="304920"/>
            <a:ext cx="716292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Which religion uses the Caste System?  How many groups are there?  What are the names of the groups people are divided i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990720" y="1676520"/>
            <a:ext cx="7162560" cy="4038480"/>
          </a:xfrm>
          <a:prstGeom prst="wedgeRectCallout">
            <a:avLst>
              <a:gd name="adj1" fmla="val -21231"/>
              <a:gd name="adj2" fmla="val 73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was the trading path us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port silk from China to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ilk 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be really happy you must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 peace with yoursel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Taoism you must be happy with WHOM to be really happ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457200" y="304920"/>
            <a:ext cx="815328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merigo BT"/>
              </a:rPr>
              <a:t>Final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merigo BT"/>
              </a:rPr>
              <a:t>Jeopardy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609480" y="228600"/>
            <a:ext cx="7696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445400" y="533520"/>
            <a:ext cx="638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What are the three possible w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the Harrappan Civi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may have en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Does anybody know what really happe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066680" y="2895480"/>
            <a:ext cx="7031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up all of their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ders killed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ONE KNOWS what REALLY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1143000" y="14479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dus River Valley – In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uang Ho Valley - 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219320" y="228600"/>
            <a:ext cx="708660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ountry did the Indus River Valley civilization develop in?  What country did the Huang Ho Valley Civilization develop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the system that div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ocial classes in the Hindu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ig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Caste Syst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990720" y="1371600"/>
            <a:ext cx="7162560" cy="4038480"/>
          </a:xfrm>
          <a:prstGeom prst="wedgeRectCallout">
            <a:avLst>
              <a:gd name="adj1" fmla="val -21231"/>
              <a:gd name="adj2" fmla="val -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your soul lives a new lif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pending on your behavior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y be better or worse than y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fe befo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04920" y="380880"/>
            <a:ext cx="8381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Reinca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2743200"/>
            <a:ext cx="7162920" cy="2743200"/>
          </a:xfrm>
          <a:prstGeom prst="wedgeRectCallout">
            <a:avLst>
              <a:gd name="adj1" fmla="val -21231"/>
              <a:gd name="adj2" fmla="val -7175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ater / Riv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838080" y="380880"/>
            <a:ext cx="723924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geographical feature have ALL the civilizations we have discussed develop arou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106668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as originally built as a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the Chinese to prote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mselv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day it is mainly used as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urist attra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14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066680" y="380880"/>
            <a:ext cx="716292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as the Great Wall of China originally buil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its MAIN use 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914400" y="17524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four main class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UNTOUCHABLES.  Th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so low they are not e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idered a clas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990720" y="152280"/>
            <a:ext cx="716256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classes are there according to the Hindu religion?  And which group of people are SO LOW they are not even considered a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914400" y="14479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uling 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Dynas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Robin Jadick</cp:lastModifiedBy>
  <cp:lastPrinted>2007-12-17T16:01:22Z</cp:lastPrinted>
  <dcterms:modified xsi:type="dcterms:W3CDTF">2011-01-06T17:20:17Z</dcterms:modified>
  <cp:revision>75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